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482-1CDD-440A-BAD0-D0F9A71D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5A1-DB9B-47EB-8461-A83254E8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BD2-DB6A-4199-84E9-FCAE0972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6B9-5270-4AB0-8ABF-E5A307EB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6C4-32D0-46E8-A515-7B2DEF2D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70C-9A79-4348-BFE1-41C57818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8B1-46C9-498E-AD7A-F9D100CA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588-63A8-4E44-985E-9A134772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61B-CE7C-42F7-BF73-F8556803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CC6-4A11-40EC-94CC-2C832F63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B25-9A7F-49F5-846F-1892C914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683-0D53-48AA-948D-14D6F8C5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DDE2-39EA-48A3-A196-BE48D96E3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cs4learning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ics4learning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585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63244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ics4Lear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406440"/>
            <a:ext cx="426708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6248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ics4Lear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4114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22:44Z</dcterms:created>
  <dc:creator>kennedyp</dc:creator>
  <dc:description/>
  <dc:language>en-US</dc:language>
  <cp:lastModifiedBy>kennedyp</cp:lastModifiedBy>
  <dcterms:modified xsi:type="dcterms:W3CDTF">2010-12-01T14:47:28Z</dcterms:modified>
  <cp:revision>2</cp:revision>
  <dc:subject/>
  <dc:title>Slide 1</dc:title>
</cp:coreProperties>
</file>